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410E-6B75-4ED7-92BD-57166FBB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25DB-3BAB-42D8-A5B8-2B027FD5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B60D-1D2B-44D8-AA80-D6722E7A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C965-6177-42D8-B2F2-5B3742E6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1430-8054-4861-8C57-CBD3DD55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38F9-B42C-4393-A6AE-A977421A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3D48-BC63-4B5F-8B7A-1B7A113D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4A3-67ED-4133-B79F-A587F96D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A266-9573-42CF-BB22-F3E78AD1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5B4B-7DBE-43EC-81AD-9CE74DD7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4B25-517E-4E64-9B8E-12E5FFFE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4B6D-35E5-4569-B9C2-B0226AEB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4212-4859-4D1A-A7ED-025981904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Wall.jpg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648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g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gh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le of T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tr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g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e of the R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 Pillars of Isl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c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rusa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c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othe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hamm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ythe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r’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n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h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mad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j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38280" y="1142640"/>
            <a:ext cx="6477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h invented by the Musli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llectual center of Islamic 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ce where Muslims were turned back i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reading of id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a religion belie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s of a reli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le in Jerusa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s of Islamic belie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ol used for wor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gion founded by Muhamm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ristianity, Judaism, and Islam share this as a holy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y city of Islam; Great Mosque is locate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ty Muhammad and his followers escaped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gion of one g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nder of Islam; was a merchant and proph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ief in many g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lamic “bibl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k that outlines the 5 Pill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ession of faith for Isl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t be done 5 times/day for Musli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th of fasting for Musli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lims are required to give 2.5% of 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lgrimage to Mec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5:44:02Z</dcterms:created>
  <dc:creator>chris.williams</dc:creator>
  <dc:description/>
  <dc:language>en-US</dc:language>
  <cp:lastModifiedBy>chris.williams</cp:lastModifiedBy>
  <dcterms:modified xsi:type="dcterms:W3CDTF">2010-11-10T21:34:42Z</dcterms:modified>
  <cp:revision>4</cp:revision>
  <dc:subject/>
  <dc:title>China and Japan</dc:title>
</cp:coreProperties>
</file>